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25F-2448-4FC7-B0B3-E7DCDC1A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A63-89C5-4F7B-8281-B0375E72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562-96A2-484C-835A-C3290F3D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A68-4C1C-447B-8998-92643F06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27E-68BC-45A9-BC1B-103A6DAA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649-995A-4A64-8348-9DA07806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292-7C3E-426B-9444-F21AE78D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972-4329-4D68-BF2C-621DE25F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AC6-BED6-47CA-BEA4-04D0564F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22B-743A-434D-8A5C-8CAEE991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278-FA0D-4BFF-A86E-CF85471E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521-FE4B-447B-BA2B-F0E8049F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008D-B963-47A5-B623-EC1CA2F8F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utosubmit.ic3.cat/" TargetMode="External"/><Relationship Id="rId2" Type="http://schemas.openxmlformats.org/officeDocument/2006/relationships/hyperlink" Target="http://visitor:8000/autosubmit_v2/default/index" TargetMode="External"/><Relationship Id="rId3" Type="http://schemas.openxmlformats.org/officeDocument/2006/relationships/hyperlink" Target="http://ic3.cat/wikicfu/index.php/Tools/Postprocessing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c3.cat/wikicfu/index.php/Tools/Diagnostic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15920"/>
            <a:ext cx="4248360" cy="36828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I want to run a new experi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154080"/>
            <a:ext cx="4356360" cy="188280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osubmit is designed to do so. I can find its documentation there: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utosubmit.ic3.ca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know more about the models I can run and where, I have a look t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2133720"/>
            <a:ext cx="4032360" cy="215712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experiments run by CFU members, I can have a look t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isitor:8000/autosubmit_v2/default/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data downloaded by the CFU members, I can have a look t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Data/Experiment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692280"/>
            <a:ext cx="647640" cy="36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052640"/>
            <a:ext cx="3024360" cy="642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, I’d like to start from the available experi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365200">
            <a:off x="1692000" y="54900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062400">
            <a:off x="2915280" y="54828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765000"/>
            <a:ext cx="360360" cy="287640"/>
          </a:xfrm>
          <a:prstGeom prst="rightArrow">
            <a:avLst>
              <a:gd name="adj1" fmla="val 50000"/>
              <a:gd name="adj2" fmla="val 313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773360"/>
            <a:ext cx="36036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492280"/>
            <a:ext cx="3816360" cy="173988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aw data of my experiment or of the experiment run by another CFU member are now available there:  /cfunas/exp/ecearth/expid /cfunas/exp/nemo/expid                How do I process them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35772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4657680"/>
            <a:ext cx="4033800" cy="119124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ools described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c3.cat/wikicfu/index.php/Tools/Postproces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format those data into the common format used in CF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2133720"/>
            <a:ext cx="360360" cy="214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4365720"/>
            <a:ext cx="36036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6381720"/>
            <a:ext cx="6767640" cy="36828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do I perform some diagnostics on those formatted data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926600">
            <a:off x="2176560" y="4723920"/>
            <a:ext cx="360360" cy="144144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263700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859000">
            <a:off x="6408360" y="6006960"/>
            <a:ext cx="360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32000" y="189000"/>
            <a:ext cx="6767280" cy="36828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do I perform some diagnostics on those formatted data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515800">
            <a:off x="3131640" y="76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341360"/>
            <a:ext cx="3672000" cy="173988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mpute prediction scores, I have a look t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c3.cat/wikicfu/index.php/Tools/Diagnos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 run plot_timeseries.R and plot_maps.R in the same directory on my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1341360"/>
            <a:ext cx="3456000" cy="14655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mpute some variability modes or indices, I can use the tools described t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Tools/Eigen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596000">
            <a:off x="5368680" y="7837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865680"/>
            <a:ext cx="3456000" cy="119124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terpolate data, I can use the tools described 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Tools/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3284640"/>
            <a:ext cx="3313080" cy="119124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erform regression, I can use the tools described 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Tools/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4888080"/>
            <a:ext cx="3671640" cy="14655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erform some spatial smoothing, I can use the tools described t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Tools/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2T14:27:15Z</dcterms:created>
  <dc:creator>IC3</dc:creator>
  <dc:description/>
  <dc:language>en-US</dc:language>
  <cp:lastModifiedBy>IC3</cp:lastModifiedBy>
  <dcterms:modified xsi:type="dcterms:W3CDTF">2013-08-14T17:28:22Z</dcterms:modified>
  <cp:revision>21</cp:revision>
  <dc:subject/>
  <dc:title>Diapositiva 1</dc:title>
</cp:coreProperties>
</file>